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4A78-00A4-4298-9389-090DCB0C4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A539-861A-4FEE-91A8-30CAEF553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63AE-49C3-4205-99D3-4DB6C1E94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02B-4023-4D4D-BBED-FD5ACD20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40A-E89A-45DE-9EA3-8AD6FA11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043-5D08-429F-9DAB-84DFF374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76F-7B46-437A-8B08-616C84DD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3A5-AB72-4FF3-B320-8BC243B5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631-FE8F-47FD-A911-C53CE8AA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544-9E8F-4472-8226-E4C1306B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0B0-29D9-4F74-A1A5-BC943984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BB2-F53B-4AA5-808E-4F765BE0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570-9592-4F1B-90F3-9EF7B9D4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5CF-8ED5-402C-8A09-BFD497C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318-F6D8-43FD-B708-F69DA0B4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B2C9-26D6-4725-A876-C1242848F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95b"/>
                </a:solidFill>
                <a:latin typeface="Arial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Switches - Catalyst 296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600200" y="358128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 To see what images are available, set your default view to “Outline” form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F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WS-C2960S-48F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L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WS-C2960S-48L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L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WS-C2960S-48L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WS-C2960S-48T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WS-C2960S-48T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S-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WS-C2960S-48TS-S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ic 19in R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Generic_19in_Rack.emf"/>
          <p:cNvPicPr/>
          <p:nvPr/>
        </p:nvPicPr>
        <p:blipFill>
          <a:blip r:embed="rId1"/>
          <a:stretch/>
        </p:blipFill>
        <p:spPr>
          <a:xfrm>
            <a:off x="3887640" y="888840"/>
            <a:ext cx="1368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WS-C2960S_Rear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WS-C2960S-24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WS-C2960S-24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WS-C2960S-24T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WS-C2960S-24T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S-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WS-C2960S-24TS-S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F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WS-C2960S-48F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0:31:31Z</dcterms:created>
  <dc:creator>brenewma</dc:creator>
  <dc:description/>
  <dc:language>en-US</dc:language>
  <cp:lastModifiedBy>brenewma</cp:lastModifiedBy>
  <dcterms:modified xsi:type="dcterms:W3CDTF">2011-03-21T20:37:52Z</dcterms:modified>
  <cp:revision>1</cp:revision>
  <dc:subject/>
  <dc:title>Slide 1</dc:title>
</cp:coreProperties>
</file>